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5C357B-D8D6-4F39-9003-3EB8918FF3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90E37-1BC5-4017-B869-A029288D1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0C15AA-AF9F-4CCA-B5B0-195C626E49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F1B749-1DDF-4161-8E41-6BE6DEB1C9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3E59E6-0FF3-4B0B-A2C0-11C601BEEB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606EF8-2445-4DCE-98FA-04C63F699E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7CED7C-C42C-4C38-A9F9-4BD3AEFD50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79856E-0535-4F5E-9DAD-2A2D02DF18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D0783F-6956-44D3-AA10-7F373EE429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A18F39-40E0-47F4-97EE-FCF7EC4806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DDA0ED-BA1E-48B8-A1C8-C28106DC44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6F775-02E6-4751-ACFA-CD90DDC3A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B757A-F66A-4D80-9F8F-C2CD127D63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4182B1-8CF1-48B9-A254-A447DD7F63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52A758-A303-4DAE-BEF0-E183AD4982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F6DC27-5ABD-427E-8A9B-6D84577466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281DDF-612C-4E01-B46F-09B7B3BA61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19010-D212-48AE-94AA-4B58E2AFA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7E4E8-DB13-4AF1-BA4D-3B68967F8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95EA5-C9C5-4B11-B556-B25A9CC96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B64C9-8A25-4D9E-9607-48B698CA7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34631-E2B7-437F-BEFA-635A4867B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2FFF3-E1FE-4E22-8234-8CBD1E32D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A8E9A-2A94-4E91-96A9-7458851635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A4A67-B410-4562-8E3C-277199DFA4E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D7580-7C2B-4202-B2F9-B6821F258EE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history.osu.edu/uscw/features/medicine/cwsurgeon/amputations.cfm" TargetMode="External"/><Relationship Id="rId2" Type="http://schemas.openxmlformats.org/officeDocument/2006/relationships/hyperlink" Target="http://www.ehow.com/about_4574281_civil-war-surgery.html"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Surgery during the Civil War</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By Emily Hennenfent</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mputations</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mputation was the most common battlefield operation because over 70% of wounds were to the extremitie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closer to the body an amputation was, the higher the chance of death.</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a soldier had a broken bone or a torn blood vessel, the most common reaction for the doctor would be to amputate the limb.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amputate, the doctor would use a scalpal to cut the flesh and muscle away from the bone leaving just a flap of skin. Then they used a saw to cut the bone. After the bone was cut, they would use a file to grind the end of the bone down so it would be smooth and wouldn't poke through the skin. They then sewed the skin flap over the bone with horsehair but left an opening so the blood could drain out. After that, they covered the stump with plaster.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forming Amputation</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To amputate, the doctor would use a scalpel to cut the flesh and muscle away from the bone leaving just a flap of skin. Then they used a saw to cut the bone. After the bone was cut, they would use a file to grind the end of the bone down so it would be smooth and wouldn't poke through the skin. They then sewed the skin flap over the bone with horsehair but left an opening so the blood could drain out. After that, they covered the stump with plaster. </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nitation</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most battlefield hospitals, sanitation was not a priorit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an instrument was dropped during an operation it was most likely just dipped in cold bloody wat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between operations, the instruments were dipped in the same bloody water and reuse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rgeons</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rth-11,0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uth-3,0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ss than 1% of these doctors had performed surgery befo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usual kit contained a saw (to cut the bone), different sized knives, a  hook, and a pair of plier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ferences</a:t>
            </a:r>
            <a:endParaRPr b="1" lang="en-US" sz="3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hlinkClick r:id="rId1"/>
              </a:rPr>
              <a:t>Amputa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hlinkClick r:id="rId2"/>
              </a:rPr>
              <a:t>Surger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20:10:15Z</dcterms:created>
  <dc:creator>214017</dc:creator>
  <dc:description/>
  <dc:language>en-US</dc:language>
  <cp:lastModifiedBy>214017</cp:lastModifiedBy>
  <dcterms:modified xsi:type="dcterms:W3CDTF">2010-01-06T21:19:03Z</dcterms:modified>
  <cp:revision>2</cp:revision>
  <dc:subject/>
  <dc:title>Medicine during the Civil War</dc:title>
</cp:coreProperties>
</file>